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DB19-1A30-4A1A-B071-58654456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76A3-274F-43EA-87A2-22263940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19C4-80F5-48ED-A1DF-310B3DF2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BD2D-47F9-400D-8882-467C23CC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B1DF-3759-4F31-8922-5C1B3FEB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1DC7-9BA0-4ADA-90E5-9F69DBE4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A4B0-87FC-48E2-8039-FD642D28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1324-DEBB-4291-99F9-07B818E1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0E68-9107-4B71-8C3D-8DE5C0E6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D1D0-FD21-4A73-81EB-33564FEB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2B47-1FE7-4327-9F89-9F1A2B00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61CB-257A-4F06-8517-312B2B25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68A3-5610-4016-82D7-C55C8E9C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B3D4-60E5-4B69-A525-D67557CF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2F38-BF68-4C4B-990B-A458CEB1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C412-9AEE-4E19-B53E-47FC54D9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8DE3-676B-4397-96CF-4F97FF17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73E8-C63A-4637-A068-B28B2DB9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F912-F082-46FF-9119-61848572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2C28-A43D-4ED2-87A9-FDDA3C00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5936-FB58-4324-8FC1-DAE6925A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CD98-2839-4A5B-90A3-7C1F1D38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55CF-40CA-4965-A772-01D4E8B9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31B0-FC5C-440B-B9D7-19F717DC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1574-6881-4EE9-A0F7-D3A59201B85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7D3E-C030-438E-808B-05C8A320E7A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4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8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Златни ниви зреят веч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целий свят, а пък и тук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ов се носи отдалеч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рябва ли да чакам друг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не мога да оста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ка ме Исусов гл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, веднага ще оти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е ме праща моят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Чуй гласа на Госпо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лас приятен н блажен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лозето Ми този час ти ид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место Ме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не мога да оста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ка ме Исусов гл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, веднага ще оти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е ме праща моят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50120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Леността ти отстра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аботи, и то безспир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ор* в небесните стра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тигнеш в вечния Ми мир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не мога да оста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ка ме Исусов гл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, веднага ще оти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е ме праща моят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8T08:07:02Z</dcterms:modified>
  <cp:revision>176</cp:revision>
  <dc:subject/>
  <dc:title>Slide 1</dc:title>
</cp:coreProperties>
</file>